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9C93-AF0D-4851-AD75-069BB4C8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714C-6A10-4EDE-9668-D1A93006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0DCB-C433-4605-8456-6FF20A20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68E-F545-4613-AE88-5C0D8B46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FBD-2238-44E0-86F9-E73AECCA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6052-D4AD-4999-8764-87A91662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BC2-C377-4DB2-A71F-42B9D24A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413F-864C-448E-8F8A-9E80FDEC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733-7BC7-40AD-8088-35EC9AFD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833-8DA3-4C60-94AD-73207039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EBB9-9D66-4D17-A28C-91783AA0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F527-2AC0-48E6-864C-588B790E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stel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stel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stel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E811-0542-401D-AD77-3E9B1497D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Dogs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By: Heath Davidson</a:t>
            </a:r>
            <a:endParaRPr b="0" lang="en-US" sz="40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I’ve concluded that  walking your dog will help with their obedience to you.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450000">
            <a:off x="228240" y="1523520"/>
            <a:ext cx="3238560" cy="3810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0071200">
            <a:off x="4724280" y="685800"/>
            <a:ext cx="3810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Do dogs have bad obedience when not walked.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I predict that my dog will be way more hyper.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Gather all my materials 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Test 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Calculate results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Make a conclusion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Dog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Pen or Pencil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Independent: Walking and not walking him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Dependent:Reactions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Controlled:Dog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Observations </a:t>
            </a: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My dog did act a lot better. He wasn’t as hyper when I had walked him.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When I didn’t walk him he wasn’t as compliant.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He also did things he knew wrong.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My dog was tired and worn out after a run.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When I didn’t run him he was more energetic and less helpful.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19:16Z</dcterms:created>
  <dc:creator>USD376</dc:creator>
  <dc:description/>
  <dc:language>en-US</dc:language>
  <cp:lastModifiedBy>USD376</cp:lastModifiedBy>
  <dcterms:modified xsi:type="dcterms:W3CDTF">2010-05-10T14:34:47Z</dcterms:modified>
  <cp:revision>12</cp:revision>
  <dc:subject/>
  <dc:title>Dogs</dc:title>
</cp:coreProperties>
</file>